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006-013F-46FD-B426-6E69E5C6D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EBB-9346-4E05-B6F9-1FEDC9A36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452-F801-488A-9F35-D56B4B31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991-8859-48BC-BC1F-3B2BDA54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90150-3E2A-4E9E-8C39-7F21E69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97B72-77B3-4A87-8FB3-75EDDB0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AF7BB-187C-47DD-BD64-EF9391C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DD750-EA33-4A28-9425-9F62D3F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7683E-B7CC-4EB8-897B-DEBEF63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5ABE-4E11-4EFD-86FA-A1FCD21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5218-0E1B-4DFD-84C1-0B7D5353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62FAB-4306-42AF-81B3-EC3E5340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C7315-3A94-46F6-869A-3175D339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6077D-2515-41E6-A002-A5811FA7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F49-7827-431A-BFB8-7387F552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93347-5DF3-4552-836E-969771CA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3E19F-03F8-4338-A4F0-44D23CE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C4C33-597F-4720-A132-9447B7A2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F5654-4935-4683-8974-4053D2C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630B6-C9ED-48DF-B7FE-E87634A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C6087-E366-4EF7-AD50-738595F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725B7-B4D8-4FF9-8AFA-3E94CC2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852DD-BD4C-4DE8-BBEC-8B41D22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D767B-4B59-4F86-8CC6-56C98C13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E964B-6F81-4142-8364-3B130330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2AE-83F5-4C0B-819A-60143815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6F1F5-AABA-47EE-8022-96E0C4EA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CF67F-6F89-41B4-BF65-306310BD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41EE5-E872-4CD1-B29F-BA433C2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BA074-B647-4082-9721-378A230F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AD18B-E4F1-4C31-A7C4-30258DC6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6DD3E-39F6-4BBC-B2F5-2742A44A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0675D-FED9-45CC-B8E2-5553648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F563-2F6D-4CC5-9D8D-64997D5C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8F954-D5CB-4947-9201-B78A018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9B467-976F-4354-8F40-AF43241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1352-AA19-4E1C-A293-92FC32AF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6D04-DA60-4848-9F38-864538F9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48D5C-B264-4D64-950C-461FA5FC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1CB2D-01E4-4F3F-B7B1-BEB69776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02073-8908-4F2F-BA27-10C85C08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98F1A-D0A0-412A-B8AB-94F58405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86943-273C-45EE-9BF4-FB02D42A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2CD75-A186-4F3F-9D99-A109436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22BB1-9047-443B-B5BF-57C4FA88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73C83-F63D-4EDD-9223-135FE10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FC064-9992-4517-8979-3E6796B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D7F-8A14-4151-8CBF-49FC9AA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9BBD4-56C8-4805-BBA3-3246DD1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1883D-E792-4DB4-8116-286694D2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1E91C-66A6-4822-AA53-AF76C0A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D13BA-6EF4-46A0-A187-01D85CA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37E86-32DD-4BC7-81A0-39B76BEF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B0187-13F1-4CB0-8E53-EB151A5C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24105-1F58-4EDE-92B0-A0A97FB3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4BE1F-C91E-42EE-A529-8B183A24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E9D2A-D255-4690-9696-D745A8E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8B2BA-358B-4AF0-B144-65D5BAE6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F25F-DF1E-49F9-A05F-488F4FCE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D7EAA-D0A2-4CE5-B8A8-A8055CA1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ADE78-A43C-43A3-ACE0-6673646E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1BF7D-E5E9-4EF1-9938-E910902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771CC-CFDA-4245-91D2-5D45BFA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F1243-0FF7-4AB1-A156-756E969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C21E3-BAC4-428B-A578-36F326A0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4AAC4-39A0-423A-8016-806BE46A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15E3-EC3D-4268-B6DC-40741318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CE19-A18F-4052-8D1A-9886D44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4BF-1366-4E4B-A326-E80B2970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69D1-E498-4A11-AE33-FA90875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27B-C7D4-43CC-A030-FD3D8C4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92A1-B58F-4940-BE76-C71247C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CD22-0C5F-4C50-A982-520B910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ECAF-94F4-4033-8CA5-63416FE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0966-DFE9-4A2C-814B-BC6CD471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014-0A57-49A5-BC64-69BF6617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5CD0-95C5-4CCD-AF00-7394BE19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C7D1-DD94-4C64-A068-73556BD3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C32F-42BE-48EB-92A4-9C682E49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C3D7-98E8-4686-9D0E-3787E287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53E3-94FE-4D23-AC25-CC4179F5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D40-DC6A-4B3D-9305-29D4785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1930-2445-44D2-89D4-48DB5F4B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169C1-7475-4A07-894D-364BC9F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BF6A-D56B-48F2-9B96-DE57D309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12B1-ADE1-48CF-A753-0C3E2EE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877A-2339-4DFE-AFA6-84EF3B22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2B91-84A4-47C4-8D18-4DB253AC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AA04-C506-4D1B-A9FD-C94155B4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DF39-4F7E-4E72-8FC4-AB8C3099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B571-8F9D-46F3-9DB1-76E25BDD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96A51-E21D-4CED-9116-DD79F812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7DB-2221-496B-A3D8-34408CFB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973E-86B6-47F3-8A27-6147F99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4B9F-7973-41CB-B86C-C203AA4D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C38D-F4B4-4B59-ABA6-57CBF4A6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01286-D657-4316-8152-980A837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7CA9-76CB-434F-AD49-F143E89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E307-1B76-419B-ADD0-848C346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507C-4E9B-43AC-B30D-6455CC2C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CB40-CA30-486C-8BDC-30396D2C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1B4A-79C1-4203-A1A7-4CD4E9B7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C292-7608-4673-9794-E0060FEE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9F0-9AE4-4D05-BAD5-0EAFFD5D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0D87-40ED-4BC5-A1D7-BF720818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BE99-A348-42F3-B3C8-D457451B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592C-46AE-49FB-B25C-4ED4FA1B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135FA-7F5B-4C6A-A26D-A865C48E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0CF5-27F0-4657-BAAD-B6009F3D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797E-5913-4A88-B9B0-2D2E03B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262E-91F5-482C-A0B2-F7384EE7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B1B99-1B46-46E6-802D-8B798AFB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5EA5-8AAA-4AA9-801E-28E70707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3CC3-5E8F-40AC-9AD6-37C9A13D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882-5331-4E58-99A3-6BD7785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342C-6247-4A5C-AFD0-097D0597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F132F-A52F-406E-B666-14A0DBD3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E3D36-D429-4BA9-A38E-329156FA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DF51-95B1-40BC-B006-2C5E5D0C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CC0E-270B-4434-AB10-4ABC3DB4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2F8B-DBD7-40AF-A73E-AAD598E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FDE3-39CF-4E0D-989D-1D3302D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6251D-5CE3-4E47-A322-006FFC6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0275-6D91-466A-B4E8-DDB4841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28245-FCC7-4A71-916E-966DED6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47D-83A3-487C-9EA7-9F34182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FE95-F6C2-49AB-ACE4-26B661E0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C663-7FD5-4253-9767-FEAEFB42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0F4D1-DE29-497F-AA6C-99978E8B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EAC5-7ED7-4D2F-B206-D58A654D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BE79E-71A0-4E4C-A416-2462B74F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71787-F479-4B86-ABB0-61813C02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77DEC-137D-4C2A-8B32-8745D06E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1E703-37BB-4844-BE2F-8F234CB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5A18-5744-4232-8470-050BF5A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D832-AF0B-4526-B48B-B263EBD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8EF-E0CF-4CB9-A1C7-7717028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8DCB-C981-4D66-B0D7-F54FF8D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A1CC-CFDF-46D3-B3D0-98B66205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F2BD1-6689-4FC0-AC0B-5CF064EF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5CD81-11BB-441A-96EA-384CD33D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2803-9E35-4E7B-880C-2BEA60E1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DB63D-67DD-4990-A06C-D0F1FAAB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DB74D-830E-4F5A-9C9F-2733813C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91D0-A840-4FB6-9391-40BAB414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50B9A-9D34-4452-B2EA-1123F394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CABA-1602-4C63-8DF2-9112DD7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7F6-B225-409F-A659-5AB67068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6750E-1450-4868-8023-6229628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9029-2385-47AD-B8D8-D511F4E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CF4A-A96E-4487-9693-09A7C296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C7875-4411-40FF-8722-D7FCA4E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99B45-2899-4140-A6E2-7612A02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E336-391A-4CBD-A770-0FBE691A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EE42-CFDC-49E4-B537-F3083207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7DA4D-A35C-4807-8D8A-BC460D36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A5CD6-1179-4927-ACFB-872773D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12D1B-E4F4-4784-ACC7-48FFFC28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0A5B-64D7-40FD-8C29-E1D0D70E8566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425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2C7-C2E5-47B2-BA8D-EAC517E1643D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472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C34-15AE-424E-BB2B-042AA81A51A5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519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0218-2DCD-4671-96C8-3415946805B9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56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8F4-B975-493D-9FCA-9609D1AB256C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6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49" name="AutoShape 8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F951-A809-47AE-8CE7-106BFE4C162B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9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B07-DD14-4FFC-956E-5499022BECC1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143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0D54-AB27-4AC9-8256-45A63CE17C4C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190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C57-314D-49B2-A74C-994AE9EE92B6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237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7842-9BEC-47A1-A8C1-560FA3E22E7A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284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1F33-5BF4-411E-ABE5-5A70A2C2E4F5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331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2B3-D085-403F-A9B9-7EBA1D460705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378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ED40-03C5-49DE-A273-8ACE6902816E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i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Media Center serves as an integral part of th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educational program and is the information hub of the sch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students will acquire 21st century skills(multi-literacy skills) to become prepared to learn, work, and live in a digital, knowledge-based glob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ool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udent Eng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can engage students in learning in man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physic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Wiki/Web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brary Physical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, comfortable and inv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ent/independent stud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ve/peer-to-peer learning spaces to create opportunities for interaction between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ng/Internet/view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y access to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ing Literacy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brary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shmen library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y scavenger hunt/College library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ide a wide variety of programming( speakers and authors visits, display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arch for colleges, scholarships and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 students information literacy skills and technology skills through collaborative 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equitable access to books and reading, to information, and to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club/Book swap among students i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specific services and materials for students who have special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brary Wik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 Library and Class Wiki to facilitate student driven projects using Web 2.0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ight new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 students of the activities i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sh book reviews 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/organzie links to useful online resources and web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udent Volunt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and recruit potential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students with tasks and provid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s receive Service Learn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olve students in the process of book s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ent Eng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volunteers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-host Family Reading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Resource Center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workshops for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Thanks!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ssion of the Library Media Center is to ensure that students and staff are effective users of ideas, information and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7063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an inviting environment that supports the curriculum and facilitates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an organized, up-to-date collection, and technologies that support the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opportunities for collaboration with  teachers to integrate information literacy skills and technologies into the curricul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 reading enjoyment and develop independent media users by providing intellectual and physical access to materials in all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bjectives (Short Term Goal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end department meetings and share with teachers about research project ideas and evolving technolo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with teachers in the implementation and assess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research-based units that will require students to use multimedia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 student awareness about copyright basics  and responsible use of ideas an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library book cir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hands-on technology training sessions to students, faculty and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-Librarian Collab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tions the librarian makes before collaboration with a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common ground the teacher and the librarian 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considers what the teacher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is adaptable to teacher'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helps without dominating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finds out what the teacher means when he/she says "research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llab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topic and what kinds of projects can be done? How can higher order thinking skills be incorpor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want the students to know and do? What  Standards and Information Literacy Skills are addres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sources does the libra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echnology skills should be incorpo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various levels of ability and learning styles which must be accommod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long do students have to do the assignment and how many days do the students need in the libr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bilities (Who will teach what) and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sources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diovis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icals and news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nt books and Referenc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resources(databases, e-book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sources Acqui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be aligned with Illinois State Learning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support school curriculum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support the educational needs of the administration, educators and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follow CPS Collection Develop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riteria for Selection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s from professional sources and and collection development/selection t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vey the needs and interests of students and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vance to the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quacy of current ho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vance to professional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tools and resources necessary to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 research pro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yright date/Copyright compli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2:51:20Z</dcterms:created>
  <dc:creator>knight knight</dc:creator>
  <dc:description/>
  <dc:language>en-US</dc:language>
  <cp:lastModifiedBy>Yamei</cp:lastModifiedBy>
  <dcterms:modified xsi:type="dcterms:W3CDTF">2011-07-12T22:25:53Z</dcterms:modified>
  <cp:revision>920</cp:revision>
  <dc:subject/>
  <dc:title>Library Media Center Mission</dc:title>
</cp:coreProperties>
</file>